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289D-76F0-4691-9E5F-1A625D0CE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E181-712D-41F0-B333-D00A5844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7C22-86D1-4973-93A1-FF96661CC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992D-E083-49BC-A7AA-283E0E560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F7F2-A50D-4193-9993-4D7ADE62C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0F4E-2BFC-4F85-9DF8-A6D0D639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4BDC-E1D2-406F-9668-ACC42852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D7AB-E78E-4452-9095-002C6329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2FD9-4A31-4CF2-8997-EE466C8B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C054-C7D1-49F5-8A0E-15599F80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EC6F-20AE-4EF5-B97C-9F998140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1A55-838F-4A17-BDE1-EFA1D8A9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D04D-36C1-401B-B6AE-2E9C9216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78D9-CBB8-4268-892A-4CAC713F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A646-2530-4EDD-B307-EB2145D7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4635-599C-4CD7-B87C-DC2284D79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D934-A937-4BCD-8C5B-BFAA6E34A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7924-EAD6-4760-8C09-39991983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E45B-4C38-414C-9D28-A3E389F7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6489-D2D5-4EBB-A001-DAB84B4A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F6F9-9EF3-4B2C-BEE9-94B61F83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B210-5E91-47D4-8E8B-1EA7342E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AD89-E0AE-4F65-BFF1-B6243A31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2584-649D-40DE-B2C6-33E1180A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F94F-3BE0-4AE8-8873-0000890BD16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F82F-535A-48CA-896D-03C0A472F9F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7440" y="907920"/>
            <a:ext cx="623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Arial"/>
              </a:rPr>
              <a:t>ПРЕДЛОЖЕНИЕ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5" name="Рисунок 8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82440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155" descr=""/>
          <p:cNvPicPr/>
          <p:nvPr/>
        </p:nvPicPr>
        <p:blipFill>
          <a:blip r:embed="rId1"/>
          <a:stretch/>
        </p:blipFill>
        <p:spPr>
          <a:xfrm>
            <a:off x="826920" y="2482920"/>
            <a:ext cx="8244000" cy="4216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55640" y="977760"/>
            <a:ext cx="8263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ВИДЫ </a:t>
            </a: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ПРЕДЛОЖЕНИЙ</a:t>
            </a: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ПО ИНТОНАЦИ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50920" y="2350440"/>
            <a:ext cx="8880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3366"/>
                </a:solidFill>
                <a:uFillTx/>
                <a:latin typeface="Arial"/>
              </a:rPr>
              <a:t>Главные члены предложения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3366"/>
                </a:solidFill>
                <a:latin typeface="Arial"/>
              </a:rPr>
              <a:t>(грамматическая основа предложения)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8000"/>
                </a:solidFill>
                <a:uFillTx/>
                <a:latin typeface="Arial"/>
              </a:rPr>
              <a:t>подлежащее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                  </a:t>
            </a:r>
            <a:r>
              <a:rPr b="1" lang="en-US" sz="3600" spc="-1" strike="noStrike" u="sng">
                <a:solidFill>
                  <a:srgbClr val="008000"/>
                </a:solidFill>
                <a:uFillTx/>
                <a:latin typeface="Arial"/>
              </a:rPr>
              <a:t>сказуемое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кто? что?                что делает? (-ют)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(имя сущ.)                          каков (-а)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(глагол, прил.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38960" y="932040"/>
            <a:ext cx="7995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ГЛАВНЫЕ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И  </a:t>
            </a: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ВТОРОСТЕПЕННЫЕ</a:t>
            </a: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ЧЛЕНЫ  ПРЕДЛОЖЕНИЯ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11800" y="4749840"/>
            <a:ext cx="23526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98" descr=""/>
          <p:cNvPicPr/>
          <p:nvPr/>
        </p:nvPicPr>
        <p:blipFill>
          <a:blip r:embed="rId1"/>
          <a:stretch/>
        </p:blipFill>
        <p:spPr>
          <a:xfrm>
            <a:off x="898560" y="957240"/>
            <a:ext cx="8066160" cy="57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62200" y="1052640"/>
            <a:ext cx="811332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оставить из данных слов предложения. Озаглавить текст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Подчеркнуть в каждом предложении грамматическую основ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Жили, летом, братья, пасеке, н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Помогали, пчелами, дедушке, за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они, ухаживать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Мальчики, из, носили, ручья, воду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Вместе, с, собирали, мёд, дедом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душисты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Изучали, пчёл, повадки, ребят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Осенью, готовили, внуки, пчёл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с, зимовке, дедом, к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14960" y="196920"/>
            <a:ext cx="531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Самостоятельная работ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00000" y="2565360"/>
            <a:ext cx="82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Под корнями старого дерева, лисья нора, родились весной, слепые маленькие лисятки, заботливо ухаживала, согревала их, прорезались вскоре, любили играть, весело резвились, грелись на солнышке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внимательно следила, заботливая мать</a:t>
            </a:r>
            <a:r>
              <a:rPr b="0" i="1" lang="ru-RU" sz="32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87640" y="179280"/>
            <a:ext cx="57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Составление рассказ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по опорным словосочетания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38880" y="1268280"/>
            <a:ext cx="163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ЛИСА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5T07:13:48Z</dcterms:created>
  <dc:creator>PK-07</dc:creator>
  <dc:description/>
  <dc:language>en-US</dc:language>
  <cp:lastModifiedBy>PK-07</cp:lastModifiedBy>
  <dcterms:modified xsi:type="dcterms:W3CDTF">2011-08-05T09:01:02Z</dcterms:modified>
  <cp:revision>3</cp:revision>
  <dc:subject/>
  <dc:title>Слайд 1</dc:title>
</cp:coreProperties>
</file>